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ct" ContentType="image/x-pict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639-0DE2-4812-96E4-606F52FA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C22-8646-4E14-B66B-52A34D29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BE2-F81F-47E2-8715-5B6731CB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1E1-6582-4C2D-B0D5-48E553C0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BA5-573A-4E00-89DB-F0053C9F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D07-72C8-4028-83FD-681A0739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4DB-D306-4395-84F2-6FD965E6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407D-1C7A-4D6C-BC1F-A6398AF4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17B-B051-4F98-B7C2-1FA529F5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DA9-77DF-4B2C-9365-FC5BA8D7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FA7-1FFF-426F-AA2A-F7953860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490-E2F7-4A2F-A785-16E14B7D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8080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8080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80808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80808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80808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DD6C-9034-4D5F-93F1-7EE09D630363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8001000" cy="17524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Do You Know Your Colors ?</a:t>
            </a:r>
            <a:endParaRPr b="0" lang="en-US" sz="5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90720" y="2133720"/>
          <a:ext cx="773424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77342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077320" y="5815080"/>
            <a:ext cx="890640" cy="890640"/>
          </a:xfrm>
          <a:custGeom>
            <a:avLst/>
            <a:gdLst>
              <a:gd name="textAreaLeft" fmla="*/ 57600 w 890640"/>
              <a:gd name="textAreaRight" fmla="*/ 833040 w 89064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27432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8120" y="2666880"/>
            <a:ext cx="147636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Y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181480" y="2514600"/>
            <a:ext cx="11210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086600" y="297180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B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19320" y="4419720"/>
            <a:ext cx="914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V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429000" y="4572000"/>
            <a:ext cx="990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Palatino"/>
              </a:rPr>
              <a:t>W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Palatino"/>
              <a:ea typeface="Palatino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05520" y="4572000"/>
            <a:ext cx="13492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2f00"/>
                    </a:gs>
                    <a:gs pos="100000">
                      <a:srgbClr val="ff6600"/>
                    </a:gs>
                  </a:gsLst>
                  <a:lin ang="13500000"/>
                </a:gradFill>
                <a:latin typeface="Impact"/>
              </a:rPr>
              <a:t>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2f00"/>
                  </a:gs>
                  <a:gs pos="100000">
                    <a:srgbClr val="ff66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62920" y="4495680"/>
            <a:ext cx="121896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Kid Links: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457200" y="2209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Sesame Street Onlin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Barney &amp; Friends Onlin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RED-RED-RED-RED-RED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2455920"/>
          <a:ext cx="3809880" cy="31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5920"/>
                    <a:ext cx="3809880" cy="31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Red is the first of the PRIMARY Colors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e color red is found on things such as fire trucks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305920" y="604368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Yellow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3406680"/>
          <a:ext cx="3809880" cy="12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06680"/>
                    <a:ext cx="380988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Yellow is a primary color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e color yellow is found on things such as school buses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4082" y="3794"/>
                </a:moveTo>
                <a:lnTo>
                  <a:pt x="18094" y="10800"/>
                </a:lnTo>
                <a:lnTo>
                  <a:pt x="40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BLUE-BLUE-BLUE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76240" y="1981080"/>
          <a:ext cx="260352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981080"/>
                    <a:ext cx="260352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Blue is another primary color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e color blue is found on many things such as smurfs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3794"/>
                </a:moveTo>
                <a:lnTo>
                  <a:pt x="19963" y="10800"/>
                </a:lnTo>
                <a:lnTo>
                  <a:pt x="595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Brown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63520" y="1981080"/>
          <a:ext cx="2854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1981080"/>
                    <a:ext cx="2854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24280" y="20574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Brown is a common color.Some cows are brown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Brown is made by mixing red, blue and yellow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3794"/>
                </a:moveTo>
                <a:lnTo>
                  <a:pt x="18882" y="10800"/>
                </a:lnTo>
                <a:lnTo>
                  <a:pt x="48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Violet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Violet is a good color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Violet is made by mixing red and blue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2106720"/>
            <a:ext cx="3809880" cy="38624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3794"/>
                </a:moveTo>
                <a:lnTo>
                  <a:pt x="18882" y="10800"/>
                </a:lnTo>
                <a:lnTo>
                  <a:pt x="48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White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2133720"/>
          <a:ext cx="38098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38098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White is not a color!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White is found everywhere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30592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Orange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2362320"/>
          <a:ext cx="271620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362320"/>
                    <a:ext cx="271620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Orange is the color of the Tennessee Vols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Orange is made by mixing red and yellow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Green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2795760"/>
          <a:ext cx="3809880" cy="24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95760"/>
                    <a:ext cx="3809880" cy="24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Green is the color of grass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Green is made by mixing blue and yellow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4T14:16:25Z</dcterms:created>
  <dc:creator>Annette Loy</dc:creator>
  <dc:description/>
  <dc:language>en-US</dc:language>
  <cp:lastModifiedBy>Annette Loy</cp:lastModifiedBy>
  <dcterms:modified xsi:type="dcterms:W3CDTF">1999-01-31T18:18:55Z</dcterms:modified>
  <cp:revision>21</cp:revision>
  <dc:subject/>
  <dc:title>RED-RED-RED-RED-RED</dc:title>
</cp:coreProperties>
</file>